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71E-9607-4CD3-8F62-839E4DEA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C2D-C156-4761-8D58-450577DC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453-EF91-4689-BE22-8E92EFA8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F92-C4A5-4454-893A-79733501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0A8A6-9CA8-4782-B31C-C5C7C9AA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BE744-E404-4D23-8452-B041F946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C94E2-6245-4324-B24E-428FFD9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7F5E3-0CDC-44E8-9136-A2C4396F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20529-D935-458D-A87D-06877FC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2F3BD-31B7-4BC6-A2B6-D87D5D77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FD55A-1037-4C7C-9566-C9BECA38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698-CDFB-4F2F-B489-C66FA74C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C7215-08E9-4A90-A855-D7EBB22B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67A5-FE9A-4525-9FD8-CCD9DBB4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0D3D6-FB34-47C1-9732-FCEA97A4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E6EA2-0773-4B1A-8D40-A58885B7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75C1E-F949-4645-982D-3265787B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3B7-7BC2-4A34-80D6-A85C3EAC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29C-BA29-47D5-9DE1-8A4BF9CA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DD9-D704-46DB-A98D-FE1659C5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E11-4194-4ECD-B750-E31EA5E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460-9675-43BA-912E-3EC05CB3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9D3-1809-4BBA-B3F9-F00380D8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B4B-61FA-4FED-801A-9E480AA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1A2F-A69D-4855-A6A8-F82BEBB0C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4191-5CE5-4941-97D8-A81BB9F592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7360" y="2664000"/>
            <a:ext cx="79311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Сабақтың тақырыб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Дыбыс үндестіг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       </a:t>
            </a: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ілгерінді ықп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3. Дыбыс үндестіг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                                                     </a:t>
            </a: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кейінді ықп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а) ілгерінді ықпал- көрші дыбыстардың  алғашқысы соңғысын өзіне ұқсата әсер етуі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Мысал: бала –дан, қала +ға, әке+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Ә) кейінді ықпал- сөз бен қосымшаның, сөз бен сөздің аралығында кейінгі дыбыстың алғашқы дыбысқа әсер ет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Мысалы: сабақ –сабағы, кітап –кітабы, есік-есігі, теп-теуіп т.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851280" y="1267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3780000" y="1844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630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ahoma"/>
              </a:rPr>
              <a:t>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476280"/>
          <a:ext cx="8569080" cy="6310440"/>
        </p:xfrm>
        <a:graphic>
          <a:graphicData uri="http://schemas.openxmlformats.org/drawingml/2006/table">
            <a:tbl>
              <a:tblPr/>
              <a:tblGrid>
                <a:gridCol w="3179520"/>
                <a:gridCol w="53895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Қосымшала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ын үндестігіне бағынбайтын қосымшаны та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ш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па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нікі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ла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да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қо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ды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ты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к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ха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29:13Z</dcterms:created>
  <dc:creator>Анар</dc:creator>
  <dc:description/>
  <dc:language>en-US</dc:language>
  <cp:lastModifiedBy>Admin</cp:lastModifiedBy>
  <dcterms:modified xsi:type="dcterms:W3CDTF">2017-03-12T17:14:58Z</dcterms:modified>
  <cp:revision>17</cp:revision>
  <dc:subject/>
  <dc:title>Слайд 1</dc:title>
</cp:coreProperties>
</file>